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7178-853E-4D3E-92EC-5F19A9DED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6CCB5-A581-4B00-B96D-490020790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97B8F-F106-42B4-A1CE-404F3AF4F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F544B-514C-47FA-90B1-801E3EC1C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08871-FE50-4E53-8678-54962657F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AC77D-BEC3-4E71-A650-26D9894D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A9F85-BF4D-45F0-8485-675542A73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0B0FE-3173-4B67-A862-8845470D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65C12-223F-4986-ABE5-DAAEEB457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A3A9E-7A40-49B1-878D-2A4B007B8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619E-C355-4ACE-A1CB-A4D21DD9A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67E6B-1008-4697-9BEE-F8F0FB347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B7B0E-44F3-4774-A9AC-746F5070E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CE2C-55E7-4A43-8FA9-0283E80B66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Нижний колонтитул 3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Нижний колонтитул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8-03-22T09:51:53Z</dcterms:modified>
  <cp:revision>3</cp:revision>
  <dc:subject/>
  <dc:title>Chapter 6  Our Solar System and Its Origin</dc:title>
</cp:coreProperties>
</file>